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6.png" ContentType="image/png"/>
  <Override PartName="/ppt/media/image36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182-9F23-4151-8928-242E9637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9DA-0E96-49BF-81AB-03321331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2FA-F442-4035-8C46-3C5ABBFD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393-5B73-4E38-AD5D-E55F4CA2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7F5-CFE3-472D-A775-360C8722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B59-D821-44EF-89B9-4CDD4553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CAE-0824-4EF2-9082-BF5D2945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559-B5C7-4361-B559-B75C6E46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266-8CB2-4560-9310-75DEF92A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810-5B07-4654-AE21-1103F3F2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99D-6893-4929-9251-A3765D19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724-6D2B-4DBA-A8C8-1211C2AA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8720-A816-43CE-8ABC-6B15767D0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46080" y="168120"/>
            <a:ext cx="7392960" cy="5376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19200" y="5584680"/>
            <a:ext cx="62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zioni guida ex tempore 2 - strut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68440" y="6027840"/>
            <a:ext cx="628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g. Luca Capell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2222" t="0" r="13172" b="0"/>
          <a:stretch/>
        </p:blipFill>
        <p:spPr>
          <a:xfrm>
            <a:off x="330120" y="3648240"/>
            <a:ext cx="3848040" cy="302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00680" y="3776760"/>
            <a:ext cx="3495600" cy="2903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65240" y="933480"/>
            <a:ext cx="4811760" cy="1379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8440" y="298440"/>
            <a:ext cx="79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° strati: 3 oppure 5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ssori commer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commerci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240/250/272/295)x135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verticali (pareti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orizzontali (sol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320" y="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vola tipo Sistema a Pann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280" y="333360"/>
            <a:ext cx="2648160" cy="3362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784600" y="331920"/>
            <a:ext cx="2460600" cy="339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05320" y="0"/>
            <a:ext cx="2586240" cy="3425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0" t="0" r="16535" b="0"/>
          <a:stretch/>
        </p:blipFill>
        <p:spPr>
          <a:xfrm>
            <a:off x="7821720" y="1935000"/>
            <a:ext cx="1322280" cy="1554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497640" y="5240160"/>
            <a:ext cx="2646360" cy="160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497480" y="5411880"/>
            <a:ext cx="1903320" cy="1446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516560" y="3741840"/>
            <a:ext cx="1635120" cy="1666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0" y="5184720"/>
            <a:ext cx="2527200" cy="167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157480" y="4048200"/>
            <a:ext cx="2320920" cy="163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814920"/>
            <a:ext cx="2016000" cy="109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6208560" y="3576600"/>
            <a:ext cx="29354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217520"/>
            <a:ext cx="86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nda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52680" y="1257480"/>
            <a:ext cx="5727960" cy="497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3080" y="6189840"/>
            <a:ext cx="8659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VAM s.p.a. Progetto di un fabbricato secondo i principi dell’architettura biologica – Mirandola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17520" y="1712880"/>
            <a:ext cx="3111480" cy="1835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43080" y="3840120"/>
            <a:ext cx="301752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72040" y="127152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43080" y="5075280"/>
            <a:ext cx="4760640" cy="14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508720" y="3745080"/>
            <a:ext cx="3635280" cy="2858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43080" y="12733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321000" y="1428840"/>
            <a:ext cx="2554200" cy="1915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39840" y="3562200"/>
            <a:ext cx="48924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1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4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37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3280" y="1206360"/>
            <a:ext cx="4469040" cy="523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80080" y="3535200"/>
            <a:ext cx="4128840" cy="261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129280" y="1265400"/>
            <a:ext cx="3551040" cy="223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Cognento (MO): Sala condomini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9720" y="260280"/>
            <a:ext cx="2635200" cy="63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an Giovanni In Persiceto (PO): Ampliamento civile abit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760320"/>
            <a:ext cx="3987720" cy="378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52920" cy="281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2760840"/>
            <a:ext cx="4560840" cy="2516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5243400"/>
            <a:ext cx="1995480" cy="161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006640" y="5162400"/>
            <a:ext cx="2511360" cy="1695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675480" y="4057560"/>
            <a:ext cx="23112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Capellari Luca</cp:lastModifiedBy>
  <dcterms:modified xsi:type="dcterms:W3CDTF">2010-10-26T16:01:57Z</dcterms:modified>
  <cp:revision>23</cp:revision>
  <dc:subject/>
  <dc:title>Diapositiva 1</dc:title>
</cp:coreProperties>
</file>